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374188" cy="5943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664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664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664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664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664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664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664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26640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664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664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664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480" y="6381720"/>
            <a:ext cx="9119880" cy="228600"/>
            <a:chOff x="6480" y="6381720"/>
            <a:chExt cx="9119880" cy="228600"/>
          </a:xfrm>
        </p:grpSpPr>
        <p:sp>
          <p:nvSpPr>
            <p:cNvPr id="1" name=""/>
            <p:cNvSpPr/>
            <p:nvPr/>
          </p:nvSpPr>
          <p:spPr>
            <a:xfrm>
              <a:off x="6480" y="6381720"/>
              <a:ext cx="9119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480" y="6458040"/>
              <a:ext cx="9119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480" y="6534000"/>
              <a:ext cx="9119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80" y="6610320"/>
              <a:ext cx="9119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26640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360" rIns="90360" tIns="44280" bIns="44280" anchor="t">
            <a:normAutofit fontScale="91000"/>
          </a:bodyPr>
          <a:p>
            <a:pPr marL="346320" indent="-34632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Book Antiqua"/>
              </a:rPr>
              <a:t>Click to edit the outline text format</a:t>
            </a: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  <a:p>
            <a:pPr lvl="1" marL="814680" indent="-207720">
              <a:lnSpc>
                <a:spcPct val="90000"/>
              </a:lnSpc>
              <a:spcBef>
                <a:spcPts val="1199"/>
              </a:spcBef>
              <a:buClr>
                <a:srgbClr val="00279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Book Antiqua"/>
              </a:rPr>
              <a:t>Second Outline Level</a:t>
            </a: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  <a:p>
            <a:pPr lvl="2" marL="1195920" indent="-20772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Book Antiqua"/>
              </a:rPr>
              <a:t>Third Outline Level</a:t>
            </a: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  <a:p>
            <a:pPr lvl="3" marL="1525320" indent="-156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Book Antiqua"/>
              </a:rPr>
              <a:t>Fourth Outline Level</a:t>
            </a: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  <a:p>
            <a:pPr lvl="4" marL="1854720" indent="-15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Book Antiqua"/>
              </a:rPr>
              <a:t>Fifth Outline Level</a:t>
            </a: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  <a:p>
            <a:pPr lvl="5" marL="1854720" indent="-15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Book Antiqua"/>
              </a:rPr>
              <a:t>Sixth Outline Level</a:t>
            </a: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  <a:p>
            <a:pPr lvl="6" marL="1854720" indent="-15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Book Antiqua"/>
              </a:rPr>
              <a:t>Seventh Outline Level</a:t>
            </a:r>
            <a:endParaRPr b="1" lang="en-US" sz="3200" spc="-1" strike="noStrike">
              <a:solidFill>
                <a:srgbClr val="00279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-1318320" y="6297480"/>
            <a:ext cx="1096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© BIODIDAC - Fins éducatives seulement / Educational use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26640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10000" y="1447920"/>
            <a:ext cx="3333600" cy="467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90920" y="6019920"/>
            <a:ext cx="914400" cy="152280"/>
          </a:xfrm>
          <a:prstGeom prst="rect">
            <a:avLst/>
          </a:prstGeom>
          <a:solidFill>
            <a:srgbClr val="d0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386000" y="5114880"/>
            <a:ext cx="5820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Muscle ad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700200" y="1585800"/>
            <a:ext cx="433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Oss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22640" y="1662120"/>
            <a:ext cx="670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Muscle adducteur d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462320" y="3110040"/>
            <a:ext cx="5820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Muscle ab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d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87280" y="2957400"/>
            <a:ext cx="505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Pièce ba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81280" y="4710240"/>
            <a:ext cx="5820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Muscle ad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70000" y="1765440"/>
            <a:ext cx="1270080" cy="5839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17720" y="3594240"/>
            <a:ext cx="1498680" cy="3553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635360" y="2146320"/>
            <a:ext cx="2082960" cy="1117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635360" y="3441600"/>
            <a:ext cx="2159280" cy="8892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483080" y="4711320"/>
            <a:ext cx="1625760" cy="4827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17720" y="5651640"/>
            <a:ext cx="1650960" cy="2030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17720" y="5638680"/>
            <a:ext cx="1955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26640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10400" y="5276880"/>
            <a:ext cx="587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Glande muqu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19360" y="1477800"/>
            <a:ext cx="3476520" cy="4722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90920" y="6095880"/>
            <a:ext cx="990360" cy="76320"/>
          </a:xfrm>
          <a:prstGeom prst="rect">
            <a:avLst/>
          </a:prstGeom>
          <a:solidFill>
            <a:srgbClr val="d0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4560" y="1585800"/>
            <a:ext cx="453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Amp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13000" y="1841400"/>
            <a:ext cx="1117800" cy="279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1391760" y="2500200"/>
            <a:ext cx="638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Muscles de l’amp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365640" y="2425680"/>
            <a:ext cx="660240" cy="254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24800" y="1433520"/>
            <a:ext cx="402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33560" y="2119320"/>
            <a:ext cx="50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Canal lat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90400" y="3033720"/>
            <a:ext cx="495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Canal ra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1310400" y="3033720"/>
            <a:ext cx="4533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Périto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310040" y="3795840"/>
            <a:ext cx="433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Oss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1233360" y="4481640"/>
            <a:ext cx="461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Epid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15520" y="3719520"/>
            <a:ext cx="5126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P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ambulacr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19720" y="4786200"/>
            <a:ext cx="426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09880" y="5472000"/>
            <a:ext cx="433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Oss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89120" y="3289320"/>
            <a:ext cx="1193760" cy="127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460520" y="3644640"/>
            <a:ext cx="1346040" cy="406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765440" y="3797280"/>
            <a:ext cx="1117440" cy="711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60720" y="5575320"/>
            <a:ext cx="965160" cy="279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4600" y="5715000"/>
            <a:ext cx="16509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84600" y="5029200"/>
            <a:ext cx="22608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84600" y="4254120"/>
            <a:ext cx="1879560" cy="3301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75320" y="3060720"/>
            <a:ext cx="1041480" cy="2030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194440" y="2425680"/>
            <a:ext cx="965160" cy="6350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737240" y="1815840"/>
            <a:ext cx="1193760" cy="13208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6640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753000" y="1471680"/>
            <a:ext cx="2647800" cy="4805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57600" y="6172200"/>
            <a:ext cx="990720" cy="76320"/>
          </a:xfrm>
          <a:prstGeom prst="rect">
            <a:avLst/>
          </a:prstGeom>
          <a:solidFill>
            <a:srgbClr val="d0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5867280"/>
            <a:ext cx="990360" cy="457200"/>
          </a:xfrm>
          <a:prstGeom prst="rect">
            <a:avLst/>
          </a:prstGeom>
          <a:solidFill>
            <a:srgbClr val="d0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6840" y="5143680"/>
            <a:ext cx="476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Pédon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80920" y="1357200"/>
            <a:ext cx="4651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Tube 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167400" y="1967040"/>
            <a:ext cx="449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Pinn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0200" y="3262320"/>
            <a:ext cx="390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10600" y="3643200"/>
            <a:ext cx="412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0daff"/>
                </a:solidFill>
                <a:latin typeface="Arial"/>
              </a:rPr>
              <a:t>Ca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832120" y="1892160"/>
            <a:ext cx="1193760" cy="330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08440" y="2882880"/>
            <a:ext cx="1574640" cy="6350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670200" y="5016240"/>
            <a:ext cx="1117800" cy="3301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97480" y="1612800"/>
            <a:ext cx="711360" cy="279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711680" y="3492000"/>
            <a:ext cx="1625760" cy="406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0T09:38:52Z</dcterms:created>
  <dc:creator>Jon G Houseman</dc:creator>
  <dc:description/>
  <dc:language>en-US</dc:language>
  <cp:lastModifiedBy>guimard</cp:lastModifiedBy>
  <dcterms:modified xsi:type="dcterms:W3CDTF">2002-01-27T17:00:51Z</dcterms:modified>
  <cp:revision>6</cp:revision>
  <dc:subject/>
  <dc:title>Aucun titre de diapositive</dc:title>
</cp:coreProperties>
</file>