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7524720"/>
            <a:ext cx="9132840" cy="228600"/>
            <a:chOff x="-1143000" y="7524720"/>
            <a:chExt cx="9132840" cy="228600"/>
          </a:xfrm>
        </p:grpSpPr>
        <p:sp>
          <p:nvSpPr>
            <p:cNvPr id="1" name=""/>
            <p:cNvSpPr/>
            <p:nvPr/>
          </p:nvSpPr>
          <p:spPr>
            <a:xfrm>
              <a:off x="-1143000" y="752472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760104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1143000" y="767700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1143000" y="7753320"/>
              <a:ext cx="91328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-930240" y="7439040"/>
            <a:ext cx="790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© BIODIDAC - Fins éducatives seulement / Educational u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152280" y="1409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1200" y="3303720"/>
            <a:ext cx="5315040" cy="338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553080"/>
            <a:ext cx="114300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51440" y="6037200"/>
            <a:ext cx="20811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mbulacr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3640" y="27273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Inte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80040" y="470844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Esop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75280" y="676584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ip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546880" y="295596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Lan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625320" y="6080040"/>
            <a:ext cx="1657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mpo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08040" y="661356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Rec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701640" y="303228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1082520" y="470844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17880" y="249876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illon ambulacr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2895480"/>
            <a:ext cx="990720" cy="7621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419720" y="4724280"/>
            <a:ext cx="1676160" cy="2286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895480"/>
            <a:ext cx="609480" cy="8384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8320" y="3505320"/>
            <a:ext cx="1066680" cy="9144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057400" y="4876920"/>
            <a:ext cx="152280" cy="17524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2280" y="4876920"/>
            <a:ext cx="1524240" cy="759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2000" y="5181480"/>
            <a:ext cx="152280" cy="1600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715000"/>
            <a:ext cx="380880" cy="3049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124080"/>
            <a:ext cx="685800" cy="7621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352680"/>
            <a:ext cx="1981080" cy="13716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80880" y="5181480"/>
            <a:ext cx="1295640" cy="9144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152280" y="1409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81200" y="2998800"/>
            <a:ext cx="5010120" cy="3992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6705720"/>
            <a:ext cx="144792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168120" y="623268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Esop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79440" y="265104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49360" y="348948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Inte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04080" y="470844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ip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184560" y="668988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B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22840" y="6156360"/>
            <a:ext cx="1386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n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ner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4688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22640" y="272736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625320" y="493704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É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048120"/>
            <a:ext cx="1295640" cy="10666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886200"/>
            <a:ext cx="1752480" cy="8380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0880" y="5105520"/>
            <a:ext cx="762120" cy="759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66680" y="5486400"/>
            <a:ext cx="2667240" cy="7621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33920" y="5791320"/>
            <a:ext cx="0" cy="9144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029200" y="4952880"/>
            <a:ext cx="990720" cy="3049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5562720"/>
            <a:ext cx="1752480" cy="761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29200" y="3886200"/>
            <a:ext cx="609480" cy="3049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09880" y="3124080"/>
            <a:ext cx="609840" cy="6858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152280" y="1409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2600" y="3014640"/>
            <a:ext cx="5086440" cy="4052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18280" y="6537240"/>
            <a:ext cx="20811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mbulacr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08040" y="2727360"/>
            <a:ext cx="192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Madrép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03880" y="2955960"/>
            <a:ext cx="214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lande ax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89680" y="3794040"/>
            <a:ext cx="279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anal hydro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781680"/>
            <a:ext cx="1523880" cy="152280"/>
          </a:xfrm>
          <a:prstGeom prst="rect">
            <a:avLst/>
          </a:prstGeom>
          <a:solidFill>
            <a:srgbClr val="d0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1082520" y="5165640"/>
            <a:ext cx="1657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mpo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79440" y="661356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anal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70560" y="4479840"/>
            <a:ext cx="257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neau aquif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70560" y="5851440"/>
            <a:ext cx="250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Vésicule de 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1082520" y="3336840"/>
            <a:ext cx="2522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ores des pi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mbulac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685800" cy="11430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410080"/>
            <a:ext cx="1447920" cy="5335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6000" y="5638680"/>
            <a:ext cx="1523880" cy="9907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6172200"/>
            <a:ext cx="685800" cy="457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257800"/>
            <a:ext cx="1905120" cy="83808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876920"/>
            <a:ext cx="1981080" cy="2286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733920" y="4114800"/>
            <a:ext cx="1371600" cy="76212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33920" y="3352680"/>
            <a:ext cx="1218960" cy="10670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24080"/>
            <a:ext cx="990720" cy="6858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G Houseman</dc:creator>
  <dc:description/>
  <dc:language>en-US</dc:language>
  <cp:lastModifiedBy>Jon G Houseman</cp:lastModifiedBy>
  <cp:revision>0</cp:revision>
  <dc:subject/>
  <dc:title/>
</cp:coreProperties>
</file>