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7524720"/>
            <a:ext cx="9132840" cy="228600"/>
            <a:chOff x="-1143000" y="7524720"/>
            <a:chExt cx="9132840" cy="228600"/>
          </a:xfrm>
        </p:grpSpPr>
        <p:sp>
          <p:nvSpPr>
            <p:cNvPr id="1" name=""/>
            <p:cNvSpPr/>
            <p:nvPr/>
          </p:nvSpPr>
          <p:spPr>
            <a:xfrm>
              <a:off x="-1143000" y="7524720"/>
              <a:ext cx="91328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7601040"/>
              <a:ext cx="91328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-1143000" y="7677000"/>
              <a:ext cx="91328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1143000" y="7753320"/>
              <a:ext cx="91328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 txBox="1"/>
          <p:nvPr/>
        </p:nvSpPr>
        <p:spPr>
          <a:xfrm>
            <a:off x="-930240" y="7439040"/>
            <a:ext cx="7908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© BIODIDAC - Fins éducatives seulement / Educational us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152280" y="1409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28560" y="3179880"/>
            <a:ext cx="4933800" cy="332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324480"/>
            <a:ext cx="1219320" cy="152280"/>
          </a:xfrm>
          <a:prstGeom prst="rect">
            <a:avLst/>
          </a:prstGeom>
          <a:solidFill>
            <a:srgbClr val="d0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75480" y="3870360"/>
            <a:ext cx="1895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loa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usp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244440" y="2727360"/>
            <a:ext cx="255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haryngeal bu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1006560" y="34131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en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346480" y="6765840"/>
            <a:ext cx="147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701640" y="585144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Gon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98560" y="6537240"/>
            <a:ext cx="114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Go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1082520" y="4708440"/>
            <a:ext cx="182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022640" y="653724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470560" y="5241960"/>
            <a:ext cx="2063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Mesent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Peritone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80040" y="287964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651040" y="310824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oe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75280" y="2575080"/>
            <a:ext cx="118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lo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00200" y="6019920"/>
            <a:ext cx="609480" cy="5331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124080"/>
            <a:ext cx="533520" cy="16765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362320" y="3505320"/>
            <a:ext cx="838080" cy="13716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809880"/>
            <a:ext cx="990720" cy="6858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952880"/>
            <a:ext cx="1371600" cy="15264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838080" y="5562720"/>
            <a:ext cx="1067040" cy="5331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590920" y="5486400"/>
            <a:ext cx="533160" cy="13716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429000" y="5562720"/>
            <a:ext cx="914400" cy="9903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038480" y="4343400"/>
            <a:ext cx="1676520" cy="9144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334120" y="3809880"/>
            <a:ext cx="457200" cy="38124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410080" y="3124080"/>
            <a:ext cx="762120" cy="3049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971800"/>
            <a:ext cx="380880" cy="60948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28560" y="3179880"/>
            <a:ext cx="4933800" cy="3325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-152280" y="1409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6324480"/>
            <a:ext cx="1295280" cy="152280"/>
          </a:xfrm>
          <a:prstGeom prst="rect">
            <a:avLst/>
          </a:prstGeom>
          <a:solidFill>
            <a:srgbClr val="d0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853920" y="5546880"/>
            <a:ext cx="172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Ring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889280" y="6537240"/>
            <a:ext cx="220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olian ves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165640" y="4861080"/>
            <a:ext cx="252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Respiratory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346480" y="2803680"/>
            <a:ext cx="192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Madrep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473040" y="3032280"/>
            <a:ext cx="1895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one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429000"/>
            <a:ext cx="1371600" cy="12193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362320" y="3276720"/>
            <a:ext cx="838080" cy="12189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33520" y="5029200"/>
            <a:ext cx="1371600" cy="60948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133720" y="5334120"/>
            <a:ext cx="457200" cy="12189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105520" y="4114800"/>
            <a:ext cx="457200" cy="83808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480" y="4114800"/>
            <a:ext cx="1524240" cy="83808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G Houseman</dc:creator>
  <dc:description/>
  <dc:language>en-US</dc:language>
  <cp:lastModifiedBy>Jon G Houseman</cp:lastModifiedBy>
  <cp:revision>0</cp:revision>
  <dc:subject/>
  <dc:title/>
</cp:coreProperties>
</file>